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3450-7C3A-4984-9ED3-287D04B0D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DF9D-4E4F-49D1-A21A-57C503528E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AD9F-04EE-48AD-A9AF-8D8E0FE660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29E3-2965-4DDD-9BCF-9DAFAFC673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6025-F016-4565-9DB1-6ECE08D9B0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1480-9681-42EB-B096-C14A407F26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D4A-BEA8-4449-B740-22AC5C09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8D0-D4D1-497A-8AB7-1D015934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4F1-6AFD-4DFD-9E55-F081554F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76B-270F-49AD-8B61-DF4789D1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AFCC-DEC5-4637-90C7-7A6CA60D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B09A-DAEF-4FEC-A854-528D5270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F0F1-C578-4B42-8F91-26CC0869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CB60-E825-498C-BACC-1AA32919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F195-772C-40B0-AE57-68A07DDE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4695-CDFC-421C-9E69-363595C1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AC53-8ECD-401B-969F-F86635EB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303-41E5-4413-B909-F55474BD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87D6-AAC2-43A7-8DAE-149D7D0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2520-7523-4920-96DB-EF5835E8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AF08-19E0-44BB-9339-EAE0B3E0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F646-E56C-412E-A2BD-266D18D9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555B-BD7C-4588-8C48-470D6C68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CC0-273B-4615-A88E-01BDEE27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EEF-0A88-4FB4-8CA1-3C83EFC8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897-491D-40FD-B14E-43FD4A1E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AD6-0ABB-4330-AB63-917CC559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9BC-A043-4852-AC34-31C7407C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D46-6EB3-4ED7-8D6E-51F19C35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FC9-F78E-4D4E-B885-017D589E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2ACE-64E0-454E-816B-736E89C1F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BD29-3ED1-46C9-91B8-C907A531D7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stitutional Convention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is the fundamental difference between the Virginia and New Jersey Plan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556000" y="2971800"/>
            <a:ext cx="403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In the House of Representatives, the number of representatives would be based upon ______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971800" y="3505320"/>
            <a:ext cx="305280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In the Senate, the number of representatives would be ______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859120" cy="2133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3886200" y="3809880"/>
            <a:ext cx="49784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201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Define Bicameral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2666880" y="2895480"/>
            <a:ext cx="31845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was President of the Constitutional Conventi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219320" y="3021120"/>
            <a:ext cx="71326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03T12:58:10Z</dcterms:modified>
  <cp:revision>126</cp:revision>
  <dc:subject/>
  <dc:title>D/O: TO EXPLAIN AND IDENTIFY PROBLEMS OF ECONOMICS</dc:title>
</cp:coreProperties>
</file>